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CAB-01C0-497C-92BB-725A983D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F5C-00CE-468A-A2B1-355EF9D9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0B0-A00D-49FC-ADB1-21BBD74D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D6A-AEB4-4E94-B5D7-37E8796D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9D28-A2A7-49DC-BB4F-32326502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94F5-AB3E-491F-9C66-ACB61D52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B00B-BD09-4493-AC4A-3E1BC138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1395-7881-4C1F-8889-42393822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637D-DD69-4939-A269-5380A61C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E240-139C-46F4-A4D0-B02B02E9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1FF6-EE54-4427-B1DD-D449D4E1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FBA-FB98-4895-A2A3-30F3072F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FF6D-A2C6-4CDC-B47D-1C33DC32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86C1-B04F-4453-908E-705C8808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FFAD-5D05-4EE9-B688-AF6E7432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6880-330A-458D-8B00-231AD499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021E-7CAE-47AA-BB82-9A37BCCA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8B0-0E85-40B0-9567-049ABA80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D1B-8356-4167-95DD-F7E77992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E33-FF75-4A22-813E-37566547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B92-03F8-4DF5-AAAA-83E04046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1DA-ECD9-4B33-9697-B05D33B2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96D-04CC-4357-AF5C-99FAF7A8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3DA-3EE7-48FF-A601-6055F889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8968-41F0-4B62-AB48-CA1586A813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354E-877D-424F-8B1C-FF72558BCAE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SINGLE ROW FUNCTION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UMBERS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40640" y="4952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B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BS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s the absolute value of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(10) =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(-5.8) = 5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EIL, FLOO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eil(n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LOOR(n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IL returns the smallest integer that is greater or equal to 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OR returns the largest integer that is smaller or equal to 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EIL, FLOOR Exampl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EIL(n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IL(2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IL(1.3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IL(1.8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IL(-2.3) =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OOR(n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OR(2)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OR(1.3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OR(1.8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LOOR(-2.3) =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76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D(n1,n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 divides n1 by n2 and tells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D(100,10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D(22,23) =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D(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-30.23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cc"/>
                </a:solidFill>
                <a:latin typeface="Courier New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 = </a:t>
            </a:r>
            <a:r>
              <a:rPr b="0" lang="en-US" sz="2800" spc="-1" strike="noStrike">
                <a:solidFill>
                  <a:srgbClr val="33cc33"/>
                </a:solidFill>
                <a:latin typeface="Courier New"/>
              </a:rPr>
              <a:t>-2.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lnSpc>
                <a:spcPct val="10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urier New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(-4) +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(–2.2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=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- 30.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OD(</a:t>
            </a:r>
            <a:r>
              <a:rPr b="0" lang="en-US" sz="2800" spc="-1" strike="noStrike">
                <a:solidFill>
                  <a:srgbClr val="ff0000"/>
                </a:solidFill>
                <a:latin typeface="Courier New"/>
              </a:rPr>
              <a:t>4.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cc"/>
                </a:solidFill>
                <a:latin typeface="Courier New"/>
              </a:rPr>
              <a:t>0.3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 = </a:t>
            </a:r>
            <a:r>
              <a:rPr b="0" lang="en-US" sz="2800" spc="-1" strike="noStrike">
                <a:solidFill>
                  <a:srgbClr val="33cc33"/>
                </a:solidFill>
                <a:latin typeface="Courier New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lnSpc>
                <a:spcPct val="10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urier New"/>
              </a:rPr>
              <a:t>0.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 13 + </a:t>
            </a:r>
            <a:r>
              <a:rPr b="0" lang="en-US" sz="1800" spc="-1" strike="noStrike">
                <a:solidFill>
                  <a:srgbClr val="33cc33"/>
                </a:solidFill>
                <a:latin typeface="Courier New"/>
              </a:rPr>
              <a:t>0.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OW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876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WER(n1,n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WER(3,2) =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WER(3,3) = 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WER(3,1.086)=3.297263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OWER(64,0.5) =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OU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02248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UND(value,prec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55.5) =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33.3) =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-55.5) = -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-33.3) = -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45.9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,2) = 45.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45.923,2) = 45.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.926,-1)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926,-1) =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45.926,-2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UND(65.926,-2)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RUNC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02248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NC(value,prec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55.5) = 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33.3) =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-55.5) = -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-33.3) = -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45.9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,2) = 45.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45.923,2) = 45.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.926,-1) =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926,-1) =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45.926,-2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NC(65.926,-2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8:30:48Z</dcterms:created>
  <dc:creator>carmen</dc:creator>
  <dc:description/>
  <dc:language>en-US</dc:language>
  <cp:lastModifiedBy>kome</cp:lastModifiedBy>
  <dcterms:modified xsi:type="dcterms:W3CDTF">2007-09-18T17:42:20Z</dcterms:modified>
  <cp:revision>46</cp:revision>
  <dc:subject/>
  <dc:title>SINGLE ROW FUNCTIONS</dc:title>
</cp:coreProperties>
</file>